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396-840D-43E9-8A92-16F67077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10D-F6D3-4F1F-972C-C13C0F8C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44C-0AD6-4506-9423-FF88050A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174-0DD3-4866-8966-D896AE8D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A9A5-B84E-4882-96B0-6BE5B263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AF73-5C00-4BE0-95B3-C9BD21A2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445C-E18C-47BF-B42C-10EC84A6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522E-27FE-4920-A94A-CA17627B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F764-870C-44C7-A3F0-CC5FEEF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9AF4-F33C-4CDF-8268-05A6D4C4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6B29-CC5B-4A66-9AE0-5673072C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4B0-433C-4B19-86E1-7966E291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4C32-0DE9-49F1-99E3-3A35A76C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7217-14F6-4E4C-85DF-28D1F8EA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4CAA-1BE7-45F2-BBE8-FC1F1008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80A6-E891-429D-A487-EE452A17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9BCC-4F34-4188-931E-9D6D04CE7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9DF-B7C0-4ABA-B178-5EE788D4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6D9-ACC8-496F-A197-D373BD6D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D28-04D8-4D35-8B5E-AED00EB0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5AC-4F18-4661-9F99-3423CF95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AAE-FF8D-49B2-A18C-D7F2F234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957-63C1-4D55-9917-45383EA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2B4-9DEA-4AC1-8E89-92374287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A357-6FE5-4604-8D4A-FECC60FB15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A211-E7D9-49A4-8FE4-65A6A43E0E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ФОРМИРАЊЕ ЦЕН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 претпоставку да је стопа трошка администратора 750 еур, а лекара 2.150 еур може се израчунати трошак пациј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рошак капацитета за медицинску сест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4 с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8,58 е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3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рошак капацитета за администрат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3 с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6,96 е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рошак капацитета за лека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15 са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19,19 е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,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купан трошак посете пацијента = 8,3 е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ање цена услуга здравствених установа зависи од већег броја фа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литика це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оже бити заснована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ва принцип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криће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без изричито постављеног циља достизања одређеног ниво профит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стваривање профитабил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туп формирања цена треба да буд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снов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неком од релеватних система обрачуна трошкова, а најбоље на неком о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авремених присту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цизног обрачуна трошк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може се имати добар приступ формирања ц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DABC обрачу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ао основ за формирање цена дат је у настав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долази “спољни пацијент” у болниц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рачунавање укупних трошкова здравствене неге пацијен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захтев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дентификацију процеса и ресур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ји се троше проласком кроз процес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корист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дминистративн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иликом регистрације на шалтеру 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дицинск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дминистративн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приликом регистрације на шалтер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је потрошио 18 минута (0,3 сата) са администра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дицинск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приликом преглед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је потрошио 24 минута (0,4 сата) са медицинском сестром и 9 минута (0,15 сати) са лекар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чун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лико кошта услуга по минуту или по сат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е заснива на следећој једначи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опа трошка запосленог који пружа услуг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Укупан трошак ресурса потребан за обављање здравствене услуге / Расположиви капацитет времена по запосленом који пружа здравствену услуг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719360"/>
          <a:ext cx="8229600" cy="3538440"/>
        </p:xfrm>
        <a:graphic>
          <a:graphicData uri="http://schemas.openxmlformats.org/drawingml/2006/table">
            <a:tbl>
              <a:tblPr/>
              <a:tblGrid>
                <a:gridCol w="6400800"/>
                <a:gridCol w="182880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поставка трошкова за медицинску сест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евр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шњи трошкови плата и накн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шкови надзора рада (10% укупних трошкова надзо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шћење простора по м2 на годишњем нивоу (8 евра / м2 месечно, 10 м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 и подр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и годишњи трош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и месечни трош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719360"/>
          <a:ext cx="8229600" cy="4449600"/>
        </p:xfrm>
        <a:graphic>
          <a:graphicData uri="http://schemas.openxmlformats.org/drawingml/2006/table">
            <a:tbl>
              <a:tblPr/>
              <a:tblGrid>
                <a:gridCol w="6400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оложиви дани у год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ан број д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викенд д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дани годишњег одм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државни празн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дани боло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 расположиво дана у год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 расположиви дани у месе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ложиви радни сати у недељ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па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састанци, тренинг и еду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ложиви радни сати у д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а сестра у случај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расположива је за рад са пацијентима 18,66 радних дана са по 6 сати са пац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ма у дану. То је 112 сати рада месечно (18,6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6 = 1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опа трошка за медицинску сестр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62 еур / 112 = 8,58 еур по сат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15:51:02Z</dcterms:modified>
  <cp:revision>177</cp:revision>
  <dc:subject/>
  <dc:title>Soft and Hard Skills Development: A Current Situation in Serbian Companies</dc:title>
</cp:coreProperties>
</file>